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A40-DDF0-4591-881E-A671822B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744-539E-425A-B3CD-06364B5D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CEA-EA40-4C6E-B24C-90EE8A80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562-BA3A-4E42-B7C2-BE54E41A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5AE-2F9D-4790-B878-B78E7AED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560-2F18-4D31-AD48-0200FDB5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F09-39D7-451A-B2AF-5D9DD3B6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06E-F1A8-403D-BD62-D8A7EADF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A6A-528D-4310-82AC-1055EA97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55D-4963-46CB-981B-2EA3995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CA6-129A-4EB4-81C6-229DB9B9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4A4-46CE-4815-B423-9A2B0943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C246-3F4E-43E1-88AD-200B5CE7C45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836640"/>
            <a:ext cx="1871640" cy="647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1125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836640"/>
            <a:ext cx="1439640" cy="79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 persone v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vivere i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tro 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162864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724360" y="691920"/>
            <a:ext cx="9352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59640" y="549360"/>
            <a:ext cx="1008000" cy="503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rovare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2349360"/>
            <a:ext cx="1081080" cy="1295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sempio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rre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899640" y="1413000"/>
            <a:ext cx="1429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492280"/>
            <a:ext cx="1871640" cy="201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chi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G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le pers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un paese se 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no all’ est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ivere e a cer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042560" y="450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084640"/>
            <a:ext cx="1726920" cy="151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li italiani so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ti emigr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molti paesi 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che se me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 una volta,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ono anche ogg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558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300640"/>
            <a:ext cx="16574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280" y="5734080"/>
            <a:ext cx="287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5734080"/>
            <a:ext cx="71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066920" y="566100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6093000"/>
            <a:ext cx="72072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6093000"/>
            <a:ext cx="503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6021360"/>
            <a:ext cx="72072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1341360"/>
            <a:ext cx="719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2205000"/>
            <a:ext cx="2232000" cy="158292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do in un pae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ivano stranieri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3860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4076640"/>
            <a:ext cx="1511640" cy="10098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Itali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migr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515772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795640" y="515772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5589720"/>
            <a:ext cx="934920" cy="71892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 Euro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5589720"/>
            <a:ext cx="1079640" cy="93492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1:04Z</dcterms:created>
  <dc:creator>studente</dc:creator>
  <dc:description/>
  <dc:language>en-US</dc:language>
  <cp:lastModifiedBy>studente</cp:lastModifiedBy>
  <dcterms:modified xsi:type="dcterms:W3CDTF">2017-01-09T09:58:14Z</dcterms:modified>
  <cp:revision>4</cp:revision>
  <dc:subject/>
  <dc:title>Diapositiva 1</dc:title>
</cp:coreProperties>
</file>